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49B-05D3-4B42-A009-D8D96DA6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0F8-91D5-4C3C-A488-13535EF8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13F-CED2-4C07-BD39-CF5BA54E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CD0-8BD1-465C-9110-5EAEDE9F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0A9-A856-498C-87ED-1CE418C9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6B2-EA0D-49E5-A60A-9CB12BA2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BF7-2878-4B3F-83E2-B73790D9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68D-5C70-4B74-ACB2-A87A6543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F56-7C5A-4422-A4A4-24A7B094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AF9-0F9D-49E5-8379-98C4907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EDE-88A6-4C0C-A7B5-2B7CE45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2ED-FC85-48C6-B31F-3F9F5ACB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E70-137E-4963-8E6F-8F5F2F244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51000" y="3770280"/>
            <a:ext cx="664200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aseball Rul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3" descr="AO_1a"/>
          <p:cNvPicPr/>
          <p:nvPr/>
        </p:nvPicPr>
        <p:blipFill>
          <a:blip r:embed="rId1"/>
          <a:stretch/>
        </p:blipFill>
        <p:spPr>
          <a:xfrm>
            <a:off x="2930400" y="689040"/>
            <a:ext cx="32832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ase Book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s changes and any related case p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Plays/Official Interpre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ed b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 – Section –Subsection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uation A, B, C…….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or Revised case plays will have an asterisk in front of the case play number (*3.1.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read the Rule Book in conjunction with the Case Boo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re is a conflict, go with the RULE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have questions or don’t understand something ….CONTACT 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tter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Batter hit by pitch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annot “allow” pitch to hit h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Situation Management 1.wmv" descr=""/>
          <p:cNvPicPr/>
          <p:nvPr/>
        </p:nvPicPr>
        <p:blipFill>
          <a:blip r:embed="rId1"/>
          <a:stretch/>
        </p:blipFill>
        <p:spPr>
          <a:xfrm>
            <a:off x="190440" y="533520"/>
            <a:ext cx="8801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Batter hit by pitch - rolling.wmv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099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2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atcher Interference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eres with batter’s swing or opportunity to hit the bal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enforced if all runners safely advance at least one bas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 has option if all runners do not advance at least one bas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atcher interference.avi" descr=""/>
          <p:cNvPicPr/>
          <p:nvPr/>
        </p:nvPicPr>
        <p:blipFill>
          <a:blip r:embed="rId1"/>
          <a:stretch/>
        </p:blipFill>
        <p:spPr>
          <a:xfrm>
            <a:off x="228600" y="787320"/>
            <a:ext cx="876312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119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2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8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se Runnin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lide Rule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LEGAL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 slid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head first or feet fir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ithin reach of the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lide Rule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71600" y="139716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Arial"/>
              </a:rPr>
              <a:t>ILLEGAL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 slid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Rolling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ross body b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Pop-up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Runner’s leg/foot is raised higher than the fielder’s knee when the fielder is in a standing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Overslides the base and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then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makes contact with or alters the play of a fie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Runner slashes or kicks the fielder with either le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Runner tries to injure the fie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On a FORCE PLAY, if the runner does not slide on the ground and in a direct line between the bases (EXCEPT ………………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lide Rule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FORCE PLA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Runner is required to slide in a direct line between the bases into the base…UNL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The runner slides in a direction 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AWAY FROM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the fielder to avoid making contact or altering the play of the fielder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lide Rule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2967120" y="1600200"/>
            <a:ext cx="3209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xpectations of Coaches/Players/Fans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sponsibiliti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ls / Stri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r / Fo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ch / No Ca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 / 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thing E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Force Play at 2nd - 1.wmv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915400" cy="66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6" dur="1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Force Play at 2nd - 2.wmv" descr=""/>
          <p:cNvPicPr/>
          <p:nvPr/>
        </p:nvPicPr>
        <p:blipFill>
          <a:blip r:embed="rId1"/>
          <a:stretch/>
        </p:blipFill>
        <p:spPr>
          <a:xfrm>
            <a:off x="152280" y="431640"/>
            <a:ext cx="88394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2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Force play at 2nd - 3.wmv" descr=""/>
          <p:cNvPicPr/>
          <p:nvPr/>
        </p:nvPicPr>
        <p:blipFill>
          <a:blip r:embed="rId1"/>
          <a:stretch/>
        </p:blipFill>
        <p:spPr>
          <a:xfrm>
            <a:off x="114480" y="533520"/>
            <a:ext cx="887724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8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Force Play at 2nd - 4.wmv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776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4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ppeals for a Missed Base 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or Leaving Base Early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Appeals are allowed during: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Live 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Dead 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When appeals can be mad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ppeals for a Missed Base 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or Leaving Base Early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3512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Live Ball Appeal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Dead Ball Appeal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Who rules on the appeal?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When a runner cannot return to touch a bas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Force Play or Timing Play ??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Base left too so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Base Mi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Fourth Out Appeal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ppeals for a Missed Base 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or Leaving Base Early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On a fly ball, WHEN can the runner legally leave the base occupied at the time of the pitch?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en the ball is first TOUCHED by any defensive play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Hurdling / Diving over fielder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DIVING over a field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Hurdling/Jumping over a field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ILLEG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LEG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Diving over fielder.wmv" descr=""/>
          <p:cNvPicPr/>
          <p:nvPr/>
        </p:nvPicPr>
        <p:blipFill>
          <a:blip r:embed="rId1"/>
          <a:stretch/>
        </p:blipFill>
        <p:spPr>
          <a:xfrm>
            <a:off x="152280" y="171360"/>
            <a:ext cx="881388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4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Malicious Contac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Safety Ru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Hard” contact is prohibite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Applies to Defense and Offens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Penalti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Malicious Contact supersedes obstr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1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Players, Field and Equip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MC at HP no call.avi" descr=""/>
          <p:cNvPicPr/>
          <p:nvPr/>
        </p:nvPicPr>
        <p:blipFill>
          <a:blip r:embed="rId1"/>
          <a:stretch/>
        </p:blipFill>
        <p:spPr>
          <a:xfrm>
            <a:off x="177840" y="228600"/>
            <a:ext cx="87375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30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Defensive Malicious contact.wmv" descr=""/>
          <p:cNvPicPr/>
          <p:nvPr/>
        </p:nvPicPr>
        <p:blipFill>
          <a:blip r:embed="rId1"/>
          <a:stretch/>
        </p:blipFill>
        <p:spPr>
          <a:xfrm>
            <a:off x="203040" y="247680"/>
            <a:ext cx="871236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233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36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9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coring &amp; Record Keepin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n Scor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ner touches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Hom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re are three out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n does NOT score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 third out is made b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ter-Runner before he touches first b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unner who is forced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eceding runner being declared out on appeal or missing a base or leaving a base too s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unner being declared out for missing a base which was a fo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When there is MORE than one out called or declared which terminates the inning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Coach may select the out which is most advantageou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ns to end a game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bases loaded -- AND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 by P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l Fo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any other play which forces the runner from third to advance to the plate and score the winning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pire will NOT declare the game over until all runners have advanced to the next b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10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Umpirin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Umpire Jurisdiction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pire jurisdiction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S upon arriving within the confines of the field (in uniform and ready to wor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S when the umpires leave the field at the end of the 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ials retain CLERICAL AUTHORITY until they have left the site of the ga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Judgment Calls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dgement calls are fina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re is a rules misapplication, a coach may request that the correct ruling be mad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peed-Up Rul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Player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Players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up Cards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elders (except the Catcher) shall be on fair ground at the Time of the Pitch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yers, except Pitcher, may change fielding positions at any time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substitutions may change the Batting Order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 Substitution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houl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reported to the Plate Umpire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ourtesy Runner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overed under “speed up rules”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oaches MAY use Courtesy Runner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Recording CR particip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R runs for a “position” NOT a pers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R is NOT a substitu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ourtesy Runner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R must be an eligible substitute 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A player who violates the CR rules is an 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illegal substitut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A CR can replaced by another eligible CR at any time during the half inning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The CR </a:t>
            </a:r>
            <a:r>
              <a:rPr b="1" i="1" lang="en-US" sz="2800" spc="-1" strike="noStrike" u="sng">
                <a:solidFill>
                  <a:srgbClr val="0d0d0d"/>
                </a:solidFill>
                <a:uFillTx/>
                <a:latin typeface="Arial"/>
              </a:rPr>
              <a:t>cannot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 be used for “projected” substitution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Other rules of interes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umpire may be replaced during a game unless he become ill or is injured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ts, Splints, and Braces may be wor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heses and mobility equipment are allowed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pire shall NOT use tobacco or tobacco-like products on or in the vicinity of the playing field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Other rules of interes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3512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e umpire has sole authority to forfeit a ga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pires have authority over any matter not covered in the rul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Other rules of interest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Umpire discipline of Coach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Team/Bench warning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Allowable movements from the windup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Batter overruns first base on ball four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Injured Player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First and Foremos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It’s not your j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Unconscious player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oncussion Managemen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Player/Coach who is bleeding or has an open woun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ommunicable Diseases Procedu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05756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Questions ?</a:t>
            </a:r>
            <a:endParaRPr b="1" lang="en-US" sz="60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60" name="Picture 3" descr="AO_1a"/>
          <p:cNvPicPr/>
          <p:nvPr/>
        </p:nvPicPr>
        <p:blipFill>
          <a:blip r:embed="rId1"/>
          <a:stretch/>
        </p:blipFill>
        <p:spPr>
          <a:xfrm>
            <a:off x="2930400" y="789120"/>
            <a:ext cx="328320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Field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3040" y="955440"/>
            <a:ext cx="822960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Deck Circl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Dugout Extens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tching Mound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ter / Catcher Box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 on the fiel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ll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 Baseball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FHS logo require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they don’t have any?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they aren’t new?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3040" y="2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t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634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Regulation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Wood Bat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BBCOR certif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od Bat Requirement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28400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Glov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s for Glo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t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el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Loose Equipmen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ves, Bats, Helmets, Catcher’s Gear may not be on or near the fiel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it in the Dugou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3040" y="2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Uniform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1360" y="159660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layer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form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tcher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gar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ting Gloves or Wr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Introductory Question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 (Ou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 (Safe on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Questions 6-12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Helmet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tting Helmet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be worn in live ball areas during live b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atcher’s Gear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k and Head Gear require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st Protector, Cup, Shin Guard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er’s warming up a Pitcher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Fielders, Casts, &amp; Jewelry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elders – Face Guards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rd and Unyielding Items must be padded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(Knee/Ankle bra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(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welry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llow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Equipment Legality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coach is responsible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ing Bats/Helmet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 regarding legality of equipmen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2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Playing Terms and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lls / Strik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ke Zon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way between the “waist” and the shoulder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ee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the Pl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portion of the ball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trike Zone"/>
          <p:cNvPicPr/>
          <p:nvPr/>
        </p:nvPicPr>
        <p:blipFill>
          <a:blip r:embed="rId1"/>
          <a:stretch/>
        </p:blipFill>
        <p:spPr>
          <a:xfrm>
            <a:off x="4343400" y="137160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lls / Strik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92" name="Picture 3" descr="Home Plate"/>
          <p:cNvPicPr/>
          <p:nvPr/>
        </p:nvPicPr>
        <p:blipFill>
          <a:blip r:embed="rId1"/>
          <a:stretch/>
        </p:blipFill>
        <p:spPr>
          <a:xfrm>
            <a:off x="2514600" y="1871640"/>
            <a:ext cx="4114800" cy="3981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baseball"/>
          <p:cNvPicPr/>
          <p:nvPr/>
        </p:nvPicPr>
        <p:blipFill>
          <a:blip r:embed="rId2"/>
          <a:stretch/>
        </p:blipFill>
        <p:spPr>
          <a:xfrm>
            <a:off x="2916360" y="-473040"/>
            <a:ext cx="473040" cy="47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baseball"/>
          <p:cNvPicPr/>
          <p:nvPr/>
        </p:nvPicPr>
        <p:blipFill>
          <a:blip r:embed="rId3"/>
          <a:stretch/>
        </p:blipFill>
        <p:spPr>
          <a:xfrm>
            <a:off x="2841480" y="-473040"/>
            <a:ext cx="473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7.40741E-007 C -0.00781 0.00023 -0.00625 0.5375 -0.00469 1.07523 E">
                                      <p:cBhvr>
                                        <p:cTn id="462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C 0.00018 0.09352 0.00104 0.44444 0.00139 0.56134 E">
                                      <p:cBhvr>
                                        <p:cTn id="466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lls / Strik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96" name="Picture 3" descr="Home Plate"/>
          <p:cNvPicPr/>
          <p:nvPr/>
        </p:nvPicPr>
        <p:blipFill>
          <a:blip r:embed="rId1"/>
          <a:stretch/>
        </p:blipFill>
        <p:spPr>
          <a:xfrm>
            <a:off x="2514600" y="1871640"/>
            <a:ext cx="4114800" cy="398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baseball"/>
          <p:cNvPicPr/>
          <p:nvPr/>
        </p:nvPicPr>
        <p:blipFill>
          <a:blip r:embed="rId2"/>
          <a:stretch/>
        </p:blipFill>
        <p:spPr>
          <a:xfrm>
            <a:off x="2563920" y="-473040"/>
            <a:ext cx="473040" cy="47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aseball"/>
          <p:cNvPicPr/>
          <p:nvPr/>
        </p:nvPicPr>
        <p:blipFill>
          <a:blip r:embed="rId3"/>
          <a:stretch/>
        </p:blipFill>
        <p:spPr>
          <a:xfrm>
            <a:off x="2558880" y="-449280"/>
            <a:ext cx="473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5.18519E-006 L 0.00156 1.07314 E">
                                      <p:cBhvr>
                                        <p:cTn id="472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8.33333E-007 0.56991 E">
                                      <p:cBhvr>
                                        <p:cTn id="476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lls / Strik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00" name="Picture 3" descr="Home Plate"/>
          <p:cNvPicPr/>
          <p:nvPr/>
        </p:nvPicPr>
        <p:blipFill>
          <a:blip r:embed="rId1"/>
          <a:stretch/>
        </p:blipFill>
        <p:spPr>
          <a:xfrm>
            <a:off x="2514600" y="1871640"/>
            <a:ext cx="4114800" cy="3981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baseball"/>
          <p:cNvPicPr/>
          <p:nvPr/>
        </p:nvPicPr>
        <p:blipFill>
          <a:blip r:embed="rId2"/>
          <a:stretch/>
        </p:blipFill>
        <p:spPr>
          <a:xfrm>
            <a:off x="4859280" y="-473040"/>
            <a:ext cx="473040" cy="47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baseball"/>
          <p:cNvPicPr/>
          <p:nvPr/>
        </p:nvPicPr>
        <p:blipFill>
          <a:blip r:embed="rId3"/>
          <a:stretch/>
        </p:blipFill>
        <p:spPr>
          <a:xfrm>
            <a:off x="4883040" y="-477720"/>
            <a:ext cx="4730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50289E-006 C -0.01128 0.10196 -0.0224 0.20393 3.05556E-006 0.31283 C 0.0224 0.42173 0.08993 0.52555 0.1349 0.65318 C 0.17986 0.78081 0.22483 0.92948 0.26997 1.07815 E">
                                      <p:cBhvr>
                                        <p:cTn id="482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C -0.01129 0.10186 -0.0224 0.20394 4.16667E-006 0.31274 C 0.02239 0.42176 0.1125 0.59653 0.13489 0.65325 E">
                                      <p:cBhvr>
                                        <p:cTn id="486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lls / Strik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04" name="Picture 3" descr="Home Plate"/>
          <p:cNvPicPr/>
          <p:nvPr/>
        </p:nvPicPr>
        <p:blipFill>
          <a:blip r:embed="rId1"/>
          <a:stretch/>
        </p:blipFill>
        <p:spPr>
          <a:xfrm>
            <a:off x="2514600" y="1871640"/>
            <a:ext cx="4114800" cy="3981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baseball"/>
          <p:cNvPicPr/>
          <p:nvPr/>
        </p:nvPicPr>
        <p:blipFill>
          <a:blip r:embed="rId2"/>
          <a:stretch/>
        </p:blipFill>
        <p:spPr>
          <a:xfrm>
            <a:off x="3909960" y="-473040"/>
            <a:ext cx="473040" cy="47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baseball"/>
          <p:cNvPicPr/>
          <p:nvPr/>
        </p:nvPicPr>
        <p:blipFill>
          <a:blip r:embed="rId3"/>
          <a:stretch/>
        </p:blipFill>
        <p:spPr>
          <a:xfrm>
            <a:off x="3933720" y="-449280"/>
            <a:ext cx="4730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4162E-006 C 0.01545 0.10381 0.03142 0.20878 0.12951 0.34936 C 0.22725 0.48855 0.51111 0.75722 0.58819 0.84 E">
                                      <p:cBhvr>
                                        <p:cTn id="492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48148E-006 C 0.00781 0.0338 0.0243 0.14236 0.04722 0.20301 C 0.07014 0.26366 0.09479 0.30671 0.1375 0.36435 C 0.1802 0.42199 0.26909 0.51088 0.30364 0.54931 E">
                                      <p:cBhvr>
                                        <p:cTn id="49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s of Baseball (NFHS)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ledge of the rul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major rulebook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emental” rules abound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C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F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lls / Strik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nging Strik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– everyone sees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l vs Foul Tip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Swing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nt with two strik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usual situation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ter ducks, but ball strikes b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l hits batter on hands, then hits b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l hits bat, then hits bat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ter is swinging, but is hit by the b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When does a pitch “end”?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d by the catch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es out of pla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omes dea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tter hits the ball (except for foul tip)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es to rest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Foul vs Foul Tip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l Tip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tted ball that goes directly into the catcher’s glove/hand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st be caught by catcher 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l Tip Mechanics (Signal only, no verbal cal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ll remains li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l Ball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ll is immediately dead, no runners can adv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Fair / Foul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determine Fair / Foul?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r Ball (rule 2-5-1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l Ball (rule 2-16-1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advertent” foul ba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Fair / Foul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 strikes batter while IN the box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 strikes batter while out of the box in FAIR territo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 strikes batter while out of the box in FOUL territo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 strikes catcher/umpire/bat or other object in foul territo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Fair / Foul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l hits foul then rolls fai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l hits fair, then rolls foul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l hits fielder and rolls foul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l hits runner in fair territory and rolls foul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l in foul territory and starting toward fair, then is struck by runner’s foo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l rolls down line and is touched by defensive player (foul or fair territory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Fair / Foul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 strikes first/third base and bounds into foul territor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 is bounding down the line and crosses over first/third base into foul territory, but doesn’t touch the bas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 hits pitcher’s plate, and ricochets fou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 hits umpire in fair territory and rolls fou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Fair / Foul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l hits runner on third who is in foul territor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l his runner on third who is in fair territor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ner at third is standing in FAIR territory and a “line drive” is hit down the line, but clearly foul.  Runner reaches out and attempts to catch/stop the ball and touches the ball, which is in foul territor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Infield Fly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“infield fly”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ter is ou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it is in the outfield?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an outfielder makes the catch?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the is not caught and…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uched in fair or foul territor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ouched in fair territory, then rolls fou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ouched in foul territory, then rolls fai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Infield Fly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 that the situation exists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hange signals with your partner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makes the call?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NFHS Book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Books for Basebal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s (published each ye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 book and refer to Table of Rules Differences so you understand what they a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 only list MAJOR differences, there are others !!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 Plays (published each ye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Interference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nsive Team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pi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tator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Obstruction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56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ielder may not deny the runner access to a base without possession of the ball.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cher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ders a ba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ke Tag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Dead Ball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atch / No Catch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Important for fly balls, tag plays, and force play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Must be held in hand or glov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Must have and retain control of the ball through the entire pla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Voluntary release vs. Dropped 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atch / No Catch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an’t use his cap, protector, mask, pocket or other parts of the uniform to trap the ball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Don’t get in a hurry to signal catch / no-catc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atch / No Catch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Fly bal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atches ball, runs into fence and drops 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atches ball, falls, rolls and drops 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atches ball, intentionally runs forward, falls and drops 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URI catch goes thru the wall.mpeg" descr=""/>
          <p:cNvPicPr/>
          <p:nvPr/>
        </p:nvPicPr>
        <p:blipFill>
          <a:blip r:embed="rId1"/>
          <a:stretch/>
        </p:blipFill>
        <p:spPr>
          <a:xfrm>
            <a:off x="76320" y="635040"/>
            <a:ext cx="8991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2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atch no catch cal allen lake travis.mpeg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atch / No Catch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Tag Play/Force Pla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Makes the tag, but drops the b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Makes the tag, but drops the ball while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intentionally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removing it from the glove (e.g.: double play situ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Keep your eye on the player and ball until the fielder releases it, then follow to next p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Ball possession.wmv" descr=""/>
          <p:cNvPicPr/>
          <p:nvPr/>
        </p:nvPicPr>
        <p:blipFill>
          <a:blip r:embed="rId1"/>
          <a:stretch/>
        </p:blipFill>
        <p:spPr>
          <a:xfrm>
            <a:off x="152280" y="635040"/>
            <a:ext cx="88776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8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afe / Ou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Force Play –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Defi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en force is “removed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Force can be “reinstated”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Applies to one base in 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Arial"/>
              </a:rPr>
              <a:t>advance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 of the run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NFHS Book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ily RULE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………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need to read BOTH BOOK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 There are some conflicts between the book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 with the RUL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afe / Ou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Force Pla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Fielder must touch the base while holding the 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If you are unsure of whether the fielder has the ball, ask to see it BEFORE making the c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afe / Ou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Force Pla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TIMING is crucial, as is proper positio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ere to loo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afe / Ou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Tag Pla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Must tag runner 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Arial"/>
              </a:rPr>
              <a:t>with the 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Must retain pos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ASK if you are unsu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3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ubstitutin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oachin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ench and Field Conduc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harged Conferences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Designated Hitter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Must be designated before the game start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May be designated for ANY one starting player on the lineu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DH and the original player are “starting players” for purposes of the re-entry ru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Designated Hitter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A starting “defensive” player cannot also be a DH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Substitutions for DH allowed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Locked into the batting order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The role of the DH is TERMINATED whe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71640" y="1743120"/>
            <a:ext cx="319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Play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DEFENS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Fielder/Pitch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057640" y="1743120"/>
            <a:ext cx="306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D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OFFEN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Batter/Runn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Designated Hitter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659480" y="1379520"/>
            <a:ext cx="0" cy="5079960"/>
          </a:xfrm>
          <a:prstGeom prst="line">
            <a:avLst/>
          </a:prstGeom>
          <a:ln w="190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ubstitution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Unreported substitut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Substitution become legal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Recording Substitution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Re-Entry Ru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Projected” substitution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Arial"/>
              </a:rPr>
              <a:t>Substitution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An ILLEGAL SUBSTITUTE is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Player who enters the game without elig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An illegal substitute shall be restricted to the dugout for the remainder of the game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ubstitution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Illegal substitute on OFFENS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Illegal substitute on DEFENS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Rules unique to pitc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Book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just “rules of the game”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 Rules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elines for handling Light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ble Diseases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ubstitution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MPORTANT NOTE:  In a 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game-ending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ituation, discovery of the illegal substitute must be made before all infielders cross the foul lin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ench and Field Conduc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es and players in the dugou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welry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wing bat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 Equipmen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ench and Field Conduc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ers and Coaches shall not: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berately throw a bat, helmet, or other equi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e malicious cont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“time”, use any command, or commit any act for purpose of causing a bal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obacco or tobacco-like products within the confines of the fi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ve their positions or bench during a fight or physical confro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ach who leaves his positon or the bench to try and prevent or break up a fight is NOT in violation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ench and Field Conduc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3164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ers loosening up to bat shall remain in their team’s on-deck area while the other team’s pitcher is warming u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ers warming up in live ball area during the gam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onferenc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Two types of conferences, each with its own set of restric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OFFEN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DEFEN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Recording conferenc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onferenc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Conference – define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Meeting between the coach, or his non-playing representative, with one or more 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Arial"/>
              </a:rPr>
              <a:t>players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of his tea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onferenc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All conferences are “charged” unless: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Attending to an injured play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The pitcher is remov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Charged” conference by other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NOTE: It is NOT a “charged” conference if a coach stops at the mound to talk to the pitcher after he leaves the coach’s box between inning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onferenc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Offensive Conferenc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ONE “charged” per i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onferenc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Defensive Conferenc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Regular Gam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3 “charged” defensive conferences, without penal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Extra inning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ONE charged defensive conference per inning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onference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When Conferences “end”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Offen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Defen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onference in FAIR territor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Conference in FOUL territor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hen coach is restricted to the be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Book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e 1- Players, Field, Equipment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e 2 – Terms and Definitions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e 3 – Substituting, Coaching, Bench &amp; Field Conduct, Charged Conferences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e 4 – Starting and Ending Game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e 5 – Dead Ball, Suspension of Play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ad Ball T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e 6 – Pitching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e 7 – Batting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e 8 – Baserunning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running Award T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e 9 – Scoring, Record Keeping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le 10 – Umpiring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4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tarting and Ending Game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4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04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 to ga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first pit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game of DH</a:t>
            </a: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nd Rul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me coach propo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persede the ru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4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04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ers required per team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players start a g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eam may play with 8 players after the game has star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turn to 9 players during the g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4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04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ing the game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 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R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Dead Ball &amp; Base Awards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Dead Ball &amp; Base Award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 touches runner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erence by Runner or retired Runner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icious Contact 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erence with fielder trying to catch a fly foul ball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ach or non-runner pla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n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r batted ball goes into dead ball area or lodges in fence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r batted ball touches runner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r batted ball touches umpire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Dead Ball &amp; Base Award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04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wn ball goes into dead ball area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pire handles a live ball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er catches fly ball and enters dead ball area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tionally dropped fly ball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k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ch physically assists a runner</a:t>
            </a: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Putting Ball in Play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04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a Dead Ball, the ball becomes live when: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er has the ball and is on the pitching p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tcher is in his 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tter is in his 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UMPIRE CALLS “PLAY” AND GIVES THE APPROPRIATE SIG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 TIM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CEPTIONS!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6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Pitchin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Pitchers uniform/glov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Must pitch to one batt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Ambidextrous pitcher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Dropped bal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Warmup Throw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Throwing at Batt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Book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-Up Rul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First Base Rul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s of Emphasi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that can be adopted by State Association (UIL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of Major Rules Differences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FHS vs. OB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pire Signal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ches Code of Ethic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pire Code of Ethic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Two legal pitching posi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ind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Position of the Feet determines the position being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When pitching regulations become effectiv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Time of the pitch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rucial for determining balks, certain base aw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Defin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Pitcher has committed himself to delivering the pitch to the batter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Different for windup and set 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WINDU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Holding the 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Position of the fe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Pivot foo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Non-Pivot foo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WINDUP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143000" y="2209680"/>
            <a:ext cx="22096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Shoeprint"/>
          <p:cNvPicPr/>
          <p:nvPr/>
        </p:nvPicPr>
        <p:blipFill>
          <a:blip r:embed="rId1"/>
          <a:stretch/>
        </p:blipFill>
        <p:spPr>
          <a:xfrm rot="16200000">
            <a:off x="1900080" y="2214000"/>
            <a:ext cx="1422360" cy="650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Shoeprint"/>
          <p:cNvPicPr/>
          <p:nvPr/>
        </p:nvPicPr>
        <p:blipFill>
          <a:blip r:embed="rId2"/>
          <a:stretch/>
        </p:blipFill>
        <p:spPr>
          <a:xfrm flipH="1" rot="5400000">
            <a:off x="833400" y="2747520"/>
            <a:ext cx="1422360" cy="6508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5562720" y="2286000"/>
            <a:ext cx="22096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Shoeprint"/>
          <p:cNvPicPr/>
          <p:nvPr/>
        </p:nvPicPr>
        <p:blipFill>
          <a:blip r:embed="rId3"/>
          <a:stretch/>
        </p:blipFill>
        <p:spPr>
          <a:xfrm rot="16200000">
            <a:off x="5449680" y="2304360"/>
            <a:ext cx="1422360" cy="650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Shoeprint"/>
          <p:cNvPicPr/>
          <p:nvPr/>
        </p:nvPicPr>
        <p:blipFill>
          <a:blip r:embed="rId4"/>
          <a:stretch/>
        </p:blipFill>
        <p:spPr>
          <a:xfrm flipH="1" rot="5400000">
            <a:off x="4267080" y="1995480"/>
            <a:ext cx="1422720" cy="6508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1066680" y="4343400"/>
            <a:ext cx="22100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Shoeprint"/>
          <p:cNvPicPr/>
          <p:nvPr/>
        </p:nvPicPr>
        <p:blipFill>
          <a:blip r:embed="rId5"/>
          <a:stretch/>
        </p:blipFill>
        <p:spPr>
          <a:xfrm rot="16200000">
            <a:off x="1823760" y="4347720"/>
            <a:ext cx="1422360" cy="650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Shoeprint"/>
          <p:cNvPicPr/>
          <p:nvPr/>
        </p:nvPicPr>
        <p:blipFill>
          <a:blip r:embed="rId6"/>
          <a:stretch/>
        </p:blipFill>
        <p:spPr>
          <a:xfrm flipH="1" rot="5400000">
            <a:off x="757080" y="5414400"/>
            <a:ext cx="1422360" cy="6508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2"/>
          <p:cNvSpPr/>
          <p:nvPr/>
        </p:nvSpPr>
        <p:spPr>
          <a:xfrm>
            <a:off x="5486400" y="5270400"/>
            <a:ext cx="22096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Shoeprint"/>
          <p:cNvPicPr/>
          <p:nvPr/>
        </p:nvPicPr>
        <p:blipFill>
          <a:blip r:embed="rId7"/>
          <a:stretch/>
        </p:blipFill>
        <p:spPr>
          <a:xfrm rot="16200000">
            <a:off x="6243480" y="5274720"/>
            <a:ext cx="1422360" cy="65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Shoeprint"/>
          <p:cNvPicPr/>
          <p:nvPr/>
        </p:nvPicPr>
        <p:blipFill>
          <a:blip r:embed="rId8"/>
          <a:stretch/>
        </p:blipFill>
        <p:spPr>
          <a:xfrm flipH="1" rot="5400000">
            <a:off x="5146560" y="4031640"/>
            <a:ext cx="1422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5"/>
          <p:cNvGrpSpPr/>
          <p:nvPr/>
        </p:nvGrpSpPr>
        <p:grpSpPr>
          <a:xfrm>
            <a:off x="4749840" y="3492360"/>
            <a:ext cx="3352680" cy="3124440"/>
            <a:chOff x="4749840" y="3492360"/>
            <a:chExt cx="3352680" cy="3124440"/>
          </a:xfrm>
        </p:grpSpPr>
        <p:sp>
          <p:nvSpPr>
            <p:cNvPr id="222" name="Oval 16"/>
            <p:cNvSpPr/>
            <p:nvPr/>
          </p:nvSpPr>
          <p:spPr>
            <a:xfrm>
              <a:off x="4749840" y="3492360"/>
              <a:ext cx="3352680" cy="3124440"/>
            </a:xfrm>
            <a:prstGeom prst="ellipse">
              <a:avLst/>
            </a:prstGeom>
            <a:noFill/>
            <a:ln w="152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 flipH="1">
              <a:off x="5384520" y="3975120"/>
              <a:ext cx="2273400" cy="2273400"/>
            </a:xfrm>
            <a:prstGeom prst="line">
              <a:avLst/>
            </a:prstGeom>
            <a:ln w="152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WINDU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Allowable 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Pumps or ro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Foot m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Pitching mo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WINDUP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A pitcher ca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Step onto the rubber with both hands at his sid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Step onto the rubber with one hand in front of his bod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Step onto the rubber with both hands together in front of his bod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SET POSI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Holding the 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Positon of the Fe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Pivot foo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Non-pivot foo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576440" y="5842080"/>
            <a:ext cx="22096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T POSITION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658880" y="2913120"/>
            <a:ext cx="22096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Shoeprint"/>
          <p:cNvPicPr/>
          <p:nvPr/>
        </p:nvPicPr>
        <p:blipFill>
          <a:blip r:embed="rId1"/>
          <a:stretch/>
        </p:blipFill>
        <p:spPr>
          <a:xfrm>
            <a:off x="2182680" y="2684520"/>
            <a:ext cx="1422360" cy="650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Shoeprint"/>
          <p:cNvPicPr/>
          <p:nvPr/>
        </p:nvPicPr>
        <p:blipFill>
          <a:blip r:embed="rId2"/>
          <a:stretch/>
        </p:blipFill>
        <p:spPr>
          <a:xfrm flipH="1" rot="10800000">
            <a:off x="1522440" y="1873080"/>
            <a:ext cx="1422360" cy="650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6472080" y="5878440"/>
            <a:ext cx="22100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Shoeprint"/>
          <p:cNvPicPr/>
          <p:nvPr/>
        </p:nvPicPr>
        <p:blipFill>
          <a:blip r:embed="rId3"/>
          <a:stretch/>
        </p:blipFill>
        <p:spPr>
          <a:xfrm rot="20251800">
            <a:off x="6508440" y="5419440"/>
            <a:ext cx="1422360" cy="650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Shoeprint"/>
          <p:cNvPicPr/>
          <p:nvPr/>
        </p:nvPicPr>
        <p:blipFill>
          <a:blip r:embed="rId4"/>
          <a:stretch/>
        </p:blipFill>
        <p:spPr>
          <a:xfrm flipH="1" rot="8886000">
            <a:off x="4723920" y="4741560"/>
            <a:ext cx="1422360" cy="650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"/>
          <p:cNvSpPr/>
          <p:nvPr/>
        </p:nvSpPr>
        <p:spPr>
          <a:xfrm>
            <a:off x="5451480" y="2830680"/>
            <a:ext cx="22096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Shoeprint"/>
          <p:cNvPicPr/>
          <p:nvPr/>
        </p:nvPicPr>
        <p:blipFill>
          <a:blip r:embed="rId5"/>
          <a:stretch/>
        </p:blipFill>
        <p:spPr>
          <a:xfrm>
            <a:off x="5819760" y="2154240"/>
            <a:ext cx="1422360" cy="650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Shoeprint"/>
          <p:cNvPicPr/>
          <p:nvPr/>
        </p:nvPicPr>
        <p:blipFill>
          <a:blip r:embed="rId6"/>
          <a:stretch/>
        </p:blipFill>
        <p:spPr>
          <a:xfrm flipH="1" rot="10800000">
            <a:off x="5160960" y="1382760"/>
            <a:ext cx="1422360" cy="650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Shoeprint"/>
          <p:cNvPicPr/>
          <p:nvPr/>
        </p:nvPicPr>
        <p:blipFill>
          <a:blip r:embed="rId7"/>
          <a:stretch/>
        </p:blipFill>
        <p:spPr>
          <a:xfrm>
            <a:off x="1671480" y="5203800"/>
            <a:ext cx="1422720" cy="650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Shoeprint"/>
          <p:cNvPicPr/>
          <p:nvPr/>
        </p:nvPicPr>
        <p:blipFill>
          <a:blip r:embed="rId8"/>
          <a:stretch/>
        </p:blipFill>
        <p:spPr>
          <a:xfrm flipH="1" rot="10800000">
            <a:off x="546120" y="4395960"/>
            <a:ext cx="14223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br>
              <a:rPr sz="40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T POSITION</a:t>
            </a:r>
            <a:endParaRPr b="1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182600" y="2646360"/>
            <a:ext cx="22100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Shoeprint"/>
          <p:cNvPicPr/>
          <p:nvPr/>
        </p:nvPicPr>
        <p:blipFill>
          <a:blip r:embed="rId1"/>
          <a:stretch/>
        </p:blipFill>
        <p:spPr>
          <a:xfrm>
            <a:off x="907920" y="2028960"/>
            <a:ext cx="1422360" cy="65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Shoeprint"/>
          <p:cNvPicPr/>
          <p:nvPr/>
        </p:nvPicPr>
        <p:blipFill>
          <a:blip r:embed="rId2"/>
          <a:stretch/>
        </p:blipFill>
        <p:spPr>
          <a:xfrm flipH="1" rot="10800000">
            <a:off x="385920" y="1353960"/>
            <a:ext cx="1422360" cy="6508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6031080" y="2914560"/>
            <a:ext cx="22096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Shoeprint"/>
          <p:cNvPicPr/>
          <p:nvPr/>
        </p:nvPicPr>
        <p:blipFill>
          <a:blip r:embed="rId3"/>
          <a:stretch/>
        </p:blipFill>
        <p:spPr>
          <a:xfrm>
            <a:off x="6983280" y="2259000"/>
            <a:ext cx="1422360" cy="650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Shoeprint"/>
          <p:cNvPicPr/>
          <p:nvPr/>
        </p:nvPicPr>
        <p:blipFill>
          <a:blip r:embed="rId4"/>
          <a:stretch/>
        </p:blipFill>
        <p:spPr>
          <a:xfrm flipH="1" rot="10800000">
            <a:off x="6108840" y="1525680"/>
            <a:ext cx="1422360" cy="6508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2162160" y="5465880"/>
            <a:ext cx="14860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0" descr="Shoeprint"/>
          <p:cNvPicPr/>
          <p:nvPr/>
        </p:nvPicPr>
        <p:blipFill>
          <a:blip r:embed="rId5"/>
          <a:stretch/>
        </p:blipFill>
        <p:spPr>
          <a:xfrm>
            <a:off x="1084320" y="4854600"/>
            <a:ext cx="1422360" cy="650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Shoeprint"/>
          <p:cNvPicPr/>
          <p:nvPr/>
        </p:nvPicPr>
        <p:blipFill>
          <a:blip r:embed="rId6"/>
          <a:stretch/>
        </p:blipFill>
        <p:spPr>
          <a:xfrm flipH="1" rot="8947200">
            <a:off x="810720" y="4056840"/>
            <a:ext cx="1239840" cy="5684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5495760" y="5423040"/>
            <a:ext cx="1486080" cy="50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3"/>
          <p:cNvGrpSpPr/>
          <p:nvPr/>
        </p:nvGrpSpPr>
        <p:grpSpPr>
          <a:xfrm>
            <a:off x="716040" y="3605040"/>
            <a:ext cx="3197160" cy="2988000"/>
            <a:chOff x="716040" y="3605040"/>
            <a:chExt cx="3197160" cy="2988000"/>
          </a:xfrm>
        </p:grpSpPr>
        <p:sp>
          <p:nvSpPr>
            <p:cNvPr id="255" name="Oval 14"/>
            <p:cNvSpPr/>
            <p:nvPr/>
          </p:nvSpPr>
          <p:spPr>
            <a:xfrm>
              <a:off x="716040" y="3605040"/>
              <a:ext cx="3197160" cy="2988000"/>
            </a:xfrm>
            <a:prstGeom prst="ellipse">
              <a:avLst/>
            </a:prstGeom>
            <a:noFill/>
            <a:ln w="152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5"/>
            <p:cNvSpPr/>
            <p:nvPr/>
          </p:nvSpPr>
          <p:spPr>
            <a:xfrm flipH="1">
              <a:off x="1321560" y="4066560"/>
              <a:ext cx="2167920" cy="2174040"/>
            </a:xfrm>
            <a:prstGeom prst="line">
              <a:avLst/>
            </a:prstGeom>
            <a:ln w="152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16" descr="Shoeprint"/>
          <p:cNvPicPr/>
          <p:nvPr/>
        </p:nvPicPr>
        <p:blipFill>
          <a:blip r:embed="rId7"/>
          <a:stretch/>
        </p:blipFill>
        <p:spPr>
          <a:xfrm>
            <a:off x="6576840" y="4851360"/>
            <a:ext cx="1422720" cy="650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Shoeprint"/>
          <p:cNvPicPr/>
          <p:nvPr/>
        </p:nvPicPr>
        <p:blipFill>
          <a:blip r:embed="rId8"/>
          <a:stretch/>
        </p:blipFill>
        <p:spPr>
          <a:xfrm flipH="1" rot="8947200">
            <a:off x="6303600" y="4053600"/>
            <a:ext cx="1239840" cy="56844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8"/>
          <p:cNvGrpSpPr/>
          <p:nvPr/>
        </p:nvGrpSpPr>
        <p:grpSpPr>
          <a:xfrm>
            <a:off x="5283360" y="3666960"/>
            <a:ext cx="3197160" cy="2949840"/>
            <a:chOff x="5283360" y="3666960"/>
            <a:chExt cx="3197160" cy="2949840"/>
          </a:xfrm>
        </p:grpSpPr>
        <p:sp>
          <p:nvSpPr>
            <p:cNvPr id="260" name="Oval 19"/>
            <p:cNvSpPr/>
            <p:nvPr/>
          </p:nvSpPr>
          <p:spPr>
            <a:xfrm>
              <a:off x="5283360" y="3666960"/>
              <a:ext cx="3197160" cy="2949840"/>
            </a:xfrm>
            <a:prstGeom prst="ellipse">
              <a:avLst/>
            </a:prstGeom>
            <a:noFill/>
            <a:ln w="152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0"/>
            <p:cNvSpPr/>
            <p:nvPr/>
          </p:nvSpPr>
          <p:spPr>
            <a:xfrm flipH="1">
              <a:off x="5888880" y="4122720"/>
              <a:ext cx="2167920" cy="2146320"/>
            </a:xfrm>
            <a:prstGeom prst="line">
              <a:avLst/>
            </a:prstGeom>
            <a:ln w="1522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SET POSI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hecking Run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Coming 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Allowable 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Book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read ENTIRE book to understand all rules of baseball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ing plays” (and case play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9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 related to Pitc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1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2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3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5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6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7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NFHS Pitching Regulation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Balks – with runners on bas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Balk 2.wmv" descr=""/>
          <p:cNvPicPr/>
          <p:nvPr/>
        </p:nvPicPr>
        <p:blipFill>
          <a:blip r:embed="rId1"/>
          <a:stretch/>
        </p:blipFill>
        <p:spPr>
          <a:xfrm>
            <a:off x="114480" y="482760"/>
            <a:ext cx="887724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count the balks.mpeg" descr=""/>
          <p:cNvPicPr/>
          <p:nvPr/>
        </p:nvPicPr>
        <p:blipFill>
          <a:blip r:embed="rId1"/>
          <a:stretch/>
        </p:blipFill>
        <p:spPr>
          <a:xfrm>
            <a:off x="114480" y="482760"/>
            <a:ext cx="887724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4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NFHS Pitching Regulations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Intentional Wal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No pitches are requi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Verbal request by catcher or c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Rule 7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tting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tting Out of Order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Ask yourself TWO ques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Is the improper batter still at ba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If NO, has there been a pitch to a new batter, a play or attempted play, intentional base on balls, or have all infielders crossed the foul line at the end of an inn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tting Out of Order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4114800" y="1143000"/>
            <a:ext cx="2438280" cy="12952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ill at BA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304920" y="232416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 b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2133720" y="2057400"/>
            <a:ext cx="2057400" cy="1143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unn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olen base, balk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) st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3124080" y="2743200"/>
            <a:ext cx="4419720" cy="1676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Has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there been  a pitch, a play/attempted play, or have all Infielde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rossed the fou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lin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228600" y="4038480"/>
            <a:ext cx="2209680" cy="838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batter is now the proper b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266760" y="5181480"/>
            <a:ext cx="2133720" cy="13716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batter is the one that follows the new “proper” batter on the lineu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6705720" y="3886200"/>
            <a:ext cx="2286000" cy="838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 who SHOULD have batted is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5029200" y="5067360"/>
            <a:ext cx="3962520" cy="6858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outs (other than improper batter) stand and other runners retu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1"/>
          <p:cNvSpPr/>
          <p:nvPr/>
        </p:nvSpPr>
        <p:spPr>
          <a:xfrm>
            <a:off x="5067360" y="6019920"/>
            <a:ext cx="3886200" cy="6858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batter is the one following the “proper” batter called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12"/>
          <p:cNvCxnSpPr>
            <a:stCxn id="274" idx="1"/>
            <a:endCxn id="275" idx="0"/>
          </p:cNvCxnSpPr>
          <p:nvPr/>
        </p:nvCxnSpPr>
        <p:spPr>
          <a:xfrm flipV="1" rot="10800000">
            <a:off x="1104120" y="1790280"/>
            <a:ext cx="3010680" cy="534240"/>
          </a:xfrm>
          <a:prstGeom prst="bentConnector2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84" name="AutoShape 13"/>
          <p:cNvCxnSpPr>
            <a:stCxn id="274" idx="2"/>
            <a:endCxn id="277" idx="0"/>
          </p:cNvCxnSpPr>
          <p:nvPr/>
        </p:nvCxnSpPr>
        <p:spPr>
          <a:xfrm>
            <a:off x="5333760" y="2437920"/>
            <a:ext cx="1080" cy="3056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85" name="AutoShape 14"/>
          <p:cNvCxnSpPr>
            <a:stCxn id="277" idx="1"/>
            <a:endCxn id="278" idx="0"/>
          </p:cNvCxnSpPr>
          <p:nvPr/>
        </p:nvCxnSpPr>
        <p:spPr>
          <a:xfrm flipV="1" rot="10800000">
            <a:off x="1332720" y="3580920"/>
            <a:ext cx="1791360" cy="457920"/>
          </a:xfrm>
          <a:prstGeom prst="bentConnector2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86" name="AutoShape 15"/>
          <p:cNvCxnSpPr>
            <a:stCxn id="278" idx="2"/>
            <a:endCxn id="279" idx="0"/>
          </p:cNvCxnSpPr>
          <p:nvPr/>
        </p:nvCxnSpPr>
        <p:spPr>
          <a:xfrm>
            <a:off x="1333080" y="4876920"/>
            <a:ext cx="1080" cy="30528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87" name="AutoShape 16"/>
          <p:cNvCxnSpPr>
            <a:stCxn id="277" idx="3"/>
            <a:endCxn id="280" idx="0"/>
          </p:cNvCxnSpPr>
          <p:nvPr/>
        </p:nvCxnSpPr>
        <p:spPr>
          <a:xfrm>
            <a:off x="7543440" y="3580920"/>
            <a:ext cx="305640" cy="305640"/>
          </a:xfrm>
          <a:prstGeom prst="bentConnector2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88" name="AutoShape 17"/>
          <p:cNvCxnSpPr>
            <a:stCxn id="280" idx="2"/>
            <a:endCxn id="281" idx="0"/>
          </p:cNvCxnSpPr>
          <p:nvPr/>
        </p:nvCxnSpPr>
        <p:spPr>
          <a:xfrm rot="5400000">
            <a:off x="7257240" y="4476240"/>
            <a:ext cx="343800" cy="839160"/>
          </a:xfrm>
          <a:prstGeom prst="bentConnector3">
            <a:avLst>
              <a:gd name="adj1" fmla="val 50000"/>
            </a:avLst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89" name="AutoShape 18"/>
          <p:cNvCxnSpPr>
            <a:stCxn id="281" idx="2"/>
            <a:endCxn id="282" idx="0"/>
          </p:cNvCxnSpPr>
          <p:nvPr/>
        </p:nvCxnSpPr>
        <p:spPr>
          <a:xfrm>
            <a:off x="7009920" y="5752800"/>
            <a:ext cx="1080" cy="2671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90" name="AutoShape 19"/>
          <p:cNvSpPr/>
          <p:nvPr/>
        </p:nvSpPr>
        <p:spPr>
          <a:xfrm>
            <a:off x="2590920" y="4572000"/>
            <a:ext cx="2209680" cy="16765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runne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olen base, balk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) wh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per b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at bat st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20"/>
          <p:cNvCxnSpPr>
            <a:stCxn id="281" idx="1"/>
            <a:endCxn id="290" idx="3"/>
          </p:cNvCxnSpPr>
          <p:nvPr/>
        </p:nvCxnSpPr>
        <p:spPr>
          <a:xfrm flipH="1">
            <a:off x="4799880" y="5409720"/>
            <a:ext cx="229320" cy="1080"/>
          </a:xfrm>
          <a:prstGeom prst="straightConnector1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2" name="AutoShape 21"/>
          <p:cNvCxnSpPr>
            <a:stCxn id="275" idx="3"/>
            <a:endCxn id="276" idx="1"/>
          </p:cNvCxnSpPr>
          <p:nvPr/>
        </p:nvCxnSpPr>
        <p:spPr>
          <a:xfrm>
            <a:off x="1904760" y="2628720"/>
            <a:ext cx="229320" cy="10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3" name="Text Box 22"/>
          <p:cNvSpPr/>
          <p:nvPr/>
        </p:nvSpPr>
        <p:spPr>
          <a:xfrm>
            <a:off x="2287800" y="1295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1602000" y="3200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5564160" y="2362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7392960" y="3124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Batter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Interferenc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Watch for interference with catcher on ste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If runner IS put out,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If runner is NOT put ou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EXCEPTION: Batter is out on strike thre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Batter Interference 1 .wmv" descr=""/>
          <p:cNvPicPr/>
          <p:nvPr/>
        </p:nvPicPr>
        <p:blipFill>
          <a:blip r:embed="rId1"/>
          <a:stretch/>
        </p:blipFill>
        <p:spPr>
          <a:xfrm>
            <a:off x="114480" y="558720"/>
            <a:ext cx="887724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081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4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Batter interference 2.wmv" descr=""/>
          <p:cNvPicPr/>
          <p:nvPr/>
        </p:nvPicPr>
        <p:blipFill>
          <a:blip r:embed="rId1"/>
          <a:stretch/>
        </p:blipFill>
        <p:spPr>
          <a:xfrm>
            <a:off x="114480" y="482760"/>
            <a:ext cx="887724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0" dur="1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03:44:33Z</dcterms:created>
  <dc:creator>Ken Williams</dc:creator>
  <dc:description/>
  <dc:language>en-US</dc:language>
  <cp:lastModifiedBy>Ken</cp:lastModifiedBy>
  <dcterms:modified xsi:type="dcterms:W3CDTF">2013-01-02T23:46:59Z</dcterms:modified>
  <cp:revision>243</cp:revision>
  <dc:subject/>
  <dc:title>NFHS</dc:title>
</cp:coreProperties>
</file>